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481-6D03-4151-B02E-283BD0A6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DBA-4571-4C38-B763-5852F768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837-39C0-480F-8D24-34B3A415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A34-ACF0-4563-901B-58D76D27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645E-FB10-4DAE-B05F-47578226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349B-AAB8-428F-8ABB-60DD92FD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4A83-B19A-48F2-9637-9371164E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A068-043D-4886-AD1F-C0A52F44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5770-119E-4DB8-9EE7-3862CE46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7D7F-4496-440E-AAB6-A5421682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DAE5-D97F-4AC1-94BA-70098089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A46-51E3-4484-AC16-7C4FB70D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DE66-1B98-41E0-977C-9975B73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4F0D-0A28-4F3E-9720-4CE39096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9EE9-70CB-471B-B4A8-18418BA6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74A6-8F98-4619-AD0E-38364473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F1DE-91B7-486F-B664-D3B48533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423-50B3-4D3A-9146-B3F1BB40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25D-E2F1-4287-A8C2-9D89E06B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DAE-60B8-49B3-8687-AC0894C6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A2F-E9D2-4E06-801C-D262B82A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85E-735D-44E5-91CF-CFCAC4D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6E8-C6A8-41B8-A197-00B3F4E7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FF0-112A-4169-81E7-AF50BEEC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29C6-2D93-4362-9BFB-8B8B5CE2F2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DF33-FCA6-4867-9769-3E81BC9AC4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g. 3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lish-Fun Stuf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ewor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Unit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een nefertit and her husband king amonhotep iv who came to power in egypt in 1367. They built the city of akhetaton in honer of the egyptian sun god at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like the south better than the north, however if I had to travel east, I would go to new york city. The capitol of the united states from 1785 to 179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ngible:touch::audible:____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x:Sly_________:wi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swer K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een Nefertit and her husband, King Amonhotep IV, who came to power in Egypt in 1367, built the city of akhetaton in honor of the Egyptian sun god At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like the South better than the North, however, if I had to travel east, I would go to New York City, the capitol of the United States from 1785 to 1790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28:21Z</dcterms:created>
  <dc:creator>VMS</dc:creator>
  <dc:description/>
  <dc:language>en-US</dc:language>
  <cp:lastModifiedBy>student</cp:lastModifiedBy>
  <dcterms:modified xsi:type="dcterms:W3CDTF">2010-08-27T19:20:06Z</dcterms:modified>
  <cp:revision>2</cp:revision>
  <dc:subject/>
  <dc:title>Aug. 31</dc:title>
</cp:coreProperties>
</file>